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401A-7FD2-4E4B-8AA0-38DD2D73944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8B1F-ED11-4825-BE9F-11177639EAC2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Otto Bock CT Regular"/>
              </a:rPr>
              <a:t>Seite </a:t>
            </a:r>
            <a:fld id="{5E94B799-9D90-467C-A75F-77C4C30E26C0}" type="slidenum">
              <a:rPr b="1" lang="de-DE" sz="1200" spc="-1" strike="noStrike">
                <a:solidFill>
                  <a:srgbClr val="003366"/>
                </a:solidFill>
                <a:latin typeface="Otto Bock CT Regular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20760" y="609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92160" y="4647960"/>
            <a:ext cx="5407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FF1E-DCB5-4A20-834E-92F7D09AD867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Otto Bock CT Regular"/>
              </a:rPr>
              <a:t>Seite </a:t>
            </a:r>
            <a:fld id="{7C9EA6C2-24DB-49A5-A52E-66D1940D8739}" type="slidenum">
              <a:rPr b="1" lang="de-DE" sz="1200" spc="-1" strike="noStrike">
                <a:solidFill>
                  <a:srgbClr val="003366"/>
                </a:solidFill>
                <a:latin typeface="Otto Bock CT Regular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20760" y="609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2160" y="4647960"/>
            <a:ext cx="5407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879B-3B0D-4DCF-85B9-885827A95EB1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de-DE" sz="1200" spc="-1" strike="noStrike">
                <a:solidFill>
                  <a:srgbClr val="003366"/>
                </a:solidFill>
                <a:latin typeface="Otto Bock CT Regular"/>
              </a:rPr>
              <a:t>Seite </a:t>
            </a:r>
            <a:fld id="{1E2DC9B2-7A4E-47BE-B257-666B732771AC}" type="slidenum">
              <a:rPr b="1" lang="de-DE" sz="1200" spc="-1" strike="noStrike">
                <a:solidFill>
                  <a:srgbClr val="003366"/>
                </a:solidFill>
                <a:latin typeface="Otto Bock CT Regular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20760" y="609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4647960"/>
            <a:ext cx="54072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BCD-8FE2-4FA9-A301-A9F735CD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964-E178-400A-835B-3979D6D8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990-29ED-466B-AFF3-E18C58EC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452-4C95-424E-A2C6-1FB5038D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7FC1-B333-4F59-A42E-A572DA44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7329-7404-473B-BABA-505CB0D5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DC26-F0D0-4308-AB88-1E718EED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42B0-15E3-4516-99B4-0090BC2A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59D1-5D64-4D11-A598-5DA92522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DFFF-7D33-4221-B452-B4201D5D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2899-F8D9-4904-8535-E90ED2D2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92C-16E1-48B2-84DF-0D9CFE35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0208-60EA-4467-A1E4-A0986E9C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44CC-0257-4E88-AF9D-6ADB5F7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7F73-0F97-44AD-9926-98333002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9712-585F-4D6A-BBAD-29E6F2DD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317B-4DBA-478A-B9A3-16B6288B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C26-3FB5-4B9B-B31D-6D269842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94F-E7E6-4347-B08E-30AE43DA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E4D-B665-49AE-8D71-89DA3581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CFE-A570-49FD-95F8-6CE53F59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E9C-CAE4-4475-B80F-FF4842EA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E714-0BF5-41B0-9C86-EC5B1C70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C53-3A0C-45BE-B2E4-25143F6F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9945-F59D-4D12-9459-646AF21DE9D2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385D-69B9-4246-9FB3-2DE7DB6E542F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7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Protesi di arto superiore: quali novità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Arial"/>
              </a:rPr>
              <a:t>Le amputazioni in clinica della Riabilit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Arial"/>
              </a:rPr>
              <a:t>Riccione, 21-24 Maggio 20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43280" y="537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ng. Manuela Di Nico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Panoramica delle tipologie di afferragg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755640" y="2581200"/>
            <a:ext cx="832788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Tipologia di presa: Opposi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900000" y="2276640"/>
            <a:ext cx="41036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Palmo aper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pertura del palmo della ma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Presa di potenz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ano in posizione semi-aperta. Presa stabile utilizzata per oggetti cilindrici di diametro consist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Presa a tre pu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a a tre punte con pollice, indice e medi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Utilizzata per prese di precisione di piccoli oggett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Forza esercitata: 10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4869000" y="2421000"/>
            <a:ext cx="3879720" cy="2606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2"/>
          <a:stretch/>
        </p:blipFill>
        <p:spPr>
          <a:xfrm>
            <a:off x="5724360" y="5084640"/>
            <a:ext cx="2151360" cy="1586160"/>
          </a:xfrm>
          <a:prstGeom prst="rect">
            <a:avLst/>
          </a:prstGeom>
          <a:ln w="0">
            <a:noFill/>
          </a:ln>
        </p:spPr>
      </p:pic>
      <p:pic>
        <p:nvPicPr>
          <p:cNvPr id="145" name="09_slide_27_2_General user informations.wmv" descr=""/>
          <p:cNvPicPr/>
          <p:nvPr/>
        </p:nvPicPr>
        <p:blipFill>
          <a:blip r:embed="rId3"/>
          <a:stretch/>
        </p:blipFill>
        <p:spPr>
          <a:xfrm>
            <a:off x="4859280" y="3060720"/>
            <a:ext cx="4194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Tipologia di presa: Later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24000" y="2814480"/>
            <a:ext cx="3527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Presa di potenz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a stabile adatta ad oggetti di medie dimensioni (ad es. sandwich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Presa in punta later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a dedicata ad oggetti sottili (ad es. carte di credito o fogli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Forza esercitata: 7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4859280" y="2552760"/>
            <a:ext cx="4059360" cy="2100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5796000" y="4941720"/>
            <a:ext cx="2151000" cy="1586160"/>
          </a:xfrm>
          <a:prstGeom prst="rect">
            <a:avLst/>
          </a:prstGeom>
          <a:ln w="0">
            <a:noFill/>
          </a:ln>
        </p:spPr>
      </p:pic>
      <p:pic>
        <p:nvPicPr>
          <p:cNvPr id="150" name="09_slide_34_General user informations.wmv" descr=""/>
          <p:cNvPicPr/>
          <p:nvPr/>
        </p:nvPicPr>
        <p:blipFill>
          <a:blip r:embed="rId3"/>
          <a:stretch/>
        </p:blipFill>
        <p:spPr>
          <a:xfrm>
            <a:off x="3821040" y="2981160"/>
            <a:ext cx="5143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Tipologia di presa: Neutr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50920" y="2637000"/>
            <a:ext cx="35272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Posizione di riposo della ma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nfigurazione fisiologica da adottare quando la mano non è in us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Presa di stabilizz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n l’aiuto del polso flessibile può essere usata per l’afferraggio e la stabilizzazi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</a:rPr>
              <a:t>Forza esercitata: 1,5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012000" y="2924280"/>
            <a:ext cx="2043000" cy="2303280"/>
          </a:xfrm>
          <a:prstGeom prst="rect">
            <a:avLst/>
          </a:prstGeom>
          <a:ln w="0">
            <a:noFill/>
          </a:ln>
        </p:spPr>
      </p:pic>
      <p:pic>
        <p:nvPicPr>
          <p:cNvPr id="154" name="09_slide_18_2_General user informations.wmv" descr=""/>
          <p:cNvPicPr/>
          <p:nvPr/>
        </p:nvPicPr>
        <p:blipFill>
          <a:blip r:embed="rId2"/>
          <a:stretch/>
        </p:blipFill>
        <p:spPr>
          <a:xfrm>
            <a:off x="3780000" y="2720880"/>
            <a:ext cx="5279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03_slide_17_Michelangelo_Hand_Modi.wmv" descr=""/>
          <p:cNvPicPr/>
          <p:nvPr/>
        </p:nvPicPr>
        <p:blipFill>
          <a:blip r:embed="rId1"/>
          <a:stretch/>
        </p:blipFill>
        <p:spPr>
          <a:xfrm>
            <a:off x="1636560" y="250992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D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4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1e96"/>
              </a:buClr>
              <a:buFont typeface="Otto Bock CT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6360" y="4944960"/>
            <a:ext cx="9107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Otto Bock CT Regular"/>
              </a:rPr>
              <a:t>Ing. Manuela Di Nicola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Otto Bock CT Regular"/>
              </a:rPr>
              <a:t>Specialista di Prodotto Protesi di Arto Superiore e Tecnologie Biomeccatroniche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Otto Bock CT Regular"/>
              </a:rPr>
              <a:t>manuela.dinicola@ottobock.com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Otto Bock CT Regular"/>
              </a:rPr>
              <a:t>cell.  +39 329 6872575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D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04_slide_10_Rotation-Flexion.wmv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2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1e96"/>
              </a:buClr>
              <a:buFont typeface="Otto Bock CT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6360" y="4944960"/>
            <a:ext cx="9107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Otto Bock CT Regular"/>
              </a:rPr>
              <a:t>Ing. Manuela Di Nicola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Otto Bock CT Regular"/>
              </a:rPr>
              <a:t>Specialista di Prodotto Protesi di Arto Superiore e Tecnologie Biomeccatroniche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Otto Bock CT Regular"/>
              </a:rPr>
              <a:t>manuela.dinicola@ottobock.com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Otto Bock CT Regular"/>
              </a:rPr>
              <a:t>cell.  +39 329 6872575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D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09_slide_18_1_General user informations.wmv" descr=""/>
          <p:cNvPicPr/>
          <p:nvPr/>
        </p:nvPicPr>
        <p:blipFill>
          <a:blip r:embed="rId1"/>
          <a:stretch/>
        </p:blipFill>
        <p:spPr>
          <a:xfrm>
            <a:off x="1619280" y="256536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12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l nuovo sistema protesico transradiale a comunicazione BU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nsente una più rapida elaborazione dei dati rilevat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a programmazione personalizzata del processore consente ad utenti con abilità differenti di sfruttare al meglio il sistema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a mano poliarticolata presenta 7 differenti tipologie di afferraggio, portando l’utilizzatore a svolgere compiti nuov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 movimenti del polso, combinati con quelli della mano, consentono di svolgere i task con una notevole riduzione degli effetti compensator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l fine di sfruttare al meglio il sistema è fondamentale il training riabilitativ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71640" y="1093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Grazie dell’attenzion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Arial"/>
              </a:rPr>
              <a:t>Le amputazioni in clinica della Riabilit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Arial"/>
              </a:rPr>
              <a:t>Riccione, 21-24 Maggio 201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643280" y="537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ng. Manuela Di Nico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71640" y="1125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tesi mioelettriche di arto superiore                  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tato dell’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00000" y="2892600"/>
            <a:ext cx="4896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l sistema protesico viene gestito tramite l’elaborazione di due segnali elettromiografi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stemi applicabili per tutti i livelli di amputazione di arto superio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rticolazioni attive reperibili sul mercato: gomito, polso, ma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Object 19"/>
          <p:cNvGraphicFramePr/>
          <p:nvPr/>
        </p:nvGraphicFramePr>
        <p:xfrm>
          <a:off x="5940360" y="2852640"/>
          <a:ext cx="298152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852640"/>
                    <a:ext cx="2981520" cy="3022560"/>
                  </a:xfrm>
                  <a:prstGeom prst="rect">
                    <a:avLst/>
                  </a:prstGeom>
                  <a:ln w="1908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6345360" y="2629080"/>
            <a:ext cx="2474640" cy="31892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10" name="Text Box 5"/>
          <p:cNvSpPr/>
          <p:nvPr/>
        </p:nvSpPr>
        <p:spPr>
          <a:xfrm>
            <a:off x="971640" y="1125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rotesi mioelettriche transradiali                            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tato dell’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71640" y="2871720"/>
            <a:ext cx="5184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a tridigitale con pollice in opposi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stema di controllo proporzionale per la regolazione della velocità di movimento e della forza di 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nima funzionale/cosmetica di rivestime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ossibile combinazione con unità di prono-supinazione attiva del pols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971640" y="112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Mani mioelettriche poliarticolat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9" descr="ilimb8"/>
          <p:cNvPicPr/>
          <p:nvPr/>
        </p:nvPicPr>
        <p:blipFill>
          <a:blip r:embed="rId1"/>
          <a:stretch/>
        </p:blipFill>
        <p:spPr>
          <a:xfrm>
            <a:off x="6300720" y="2492280"/>
            <a:ext cx="1419120" cy="216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BeBionic-Myoelectric-Hand-has-Been-Adjusted"/>
          <p:cNvPicPr/>
          <p:nvPr/>
        </p:nvPicPr>
        <p:blipFill>
          <a:blip r:embed="rId2"/>
          <a:stretch/>
        </p:blipFill>
        <p:spPr>
          <a:xfrm>
            <a:off x="7236000" y="4797360"/>
            <a:ext cx="1625400" cy="1727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1042920" y="2924280"/>
            <a:ext cx="5184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a struttura poliarticolata consente un miglior afferraggio da un punto di vista este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ipologie di presa/posizionamento aggiuntive a seconda dei sistem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ispositivo terminale compatibile con la componentistica utilizzata con le mani tridigit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ossibile modifica del posizionamento del pollic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971640" y="1125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2340000" y="2336760"/>
            <a:ext cx="4524480" cy="2171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116000" y="4653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stema di comunicazione che consente a più periferiche di dialogare tra l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 rot="5400000">
            <a:off x="4608360" y="1736640"/>
            <a:ext cx="647640" cy="7632720"/>
          </a:xfrm>
          <a:custGeom>
            <a:avLst/>
            <a:gdLst>
              <a:gd name="textAreaLeft" fmla="*/ 0 w 647640"/>
              <a:gd name="textAreaRight" fmla="*/ 234000 w 647640"/>
              <a:gd name="textAreaTop" fmla="*/ 198720 h 7632720"/>
              <a:gd name="textAreaBottom" fmla="*/ 7434000 h 763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971640" y="59500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Non si parla di nuovo dispositivo terminale, ma di nuovo sistema protes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2852640"/>
            <a:ext cx="35895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ano poliarticol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olso multiassia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icroprocesso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stema di accumulator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125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omponenti  struttura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6" descr="michelangelo"/>
          <p:cNvPicPr/>
          <p:nvPr/>
        </p:nvPicPr>
        <p:blipFill>
          <a:blip r:embed="rId1">
            <a:lum contrast="84000"/>
          </a:blip>
          <a:srcRect l="0" t="0" r="0" b="28385"/>
          <a:stretch/>
        </p:blipFill>
        <p:spPr>
          <a:xfrm>
            <a:off x="3851280" y="2492280"/>
            <a:ext cx="993600" cy="100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rotflex"/>
          <p:cNvPicPr/>
          <p:nvPr/>
        </p:nvPicPr>
        <p:blipFill>
          <a:blip r:embed="rId2">
            <a:lum contrast="24000"/>
          </a:blip>
          <a:srcRect l="14438" t="0" r="7674" b="16234"/>
          <a:stretch/>
        </p:blipFill>
        <p:spPr>
          <a:xfrm>
            <a:off x="3357720" y="3500280"/>
            <a:ext cx="709560" cy="107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MichelangeloGesamtohne Ladegraet"/>
          <p:cNvPicPr/>
          <p:nvPr/>
        </p:nvPicPr>
        <p:blipFill>
          <a:blip r:embed="rId3"/>
          <a:srcRect l="0" t="20081" r="0" b="36880"/>
          <a:stretch/>
        </p:blipFill>
        <p:spPr>
          <a:xfrm flipH="1" rot="19309200">
            <a:off x="4787640" y="3754440"/>
            <a:ext cx="3747960" cy="133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master"/>
          <p:cNvPicPr/>
          <p:nvPr/>
        </p:nvPicPr>
        <p:blipFill>
          <a:blip r:embed="rId4"/>
          <a:srcRect l="0" t="41934" r="23180" b="4270"/>
          <a:stretch/>
        </p:blipFill>
        <p:spPr>
          <a:xfrm rot="274200">
            <a:off x="3419280" y="4869000"/>
            <a:ext cx="641160" cy="635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757B25"/>
          <p:cNvPicPr/>
          <p:nvPr/>
        </p:nvPicPr>
        <p:blipFill>
          <a:blip r:embed="rId5"/>
          <a:stretch/>
        </p:blipFill>
        <p:spPr>
          <a:xfrm rot="20194800">
            <a:off x="3851280" y="6093000"/>
            <a:ext cx="10731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Mano poliarticol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720880"/>
            <a:ext cx="57499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dita sono composte da materiali rigidi e soffic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ollice, indice e medio gestiscono attivamente la presa, anulare e mignolo si muovono passivam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Ogni dito ha un suo proprio asse di movimento, il pollice ne presenta du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Nella mano si hanno due unità motrici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ain drive: dedicata al movimento delle dit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humb drive: dedicato allo spostamento del pollice in opposizione e later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6516720" y="2414520"/>
            <a:ext cx="2149560" cy="180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6672240" y="4689360"/>
            <a:ext cx="20764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Polso multiassia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26920" y="2492280"/>
            <a:ext cx="4249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lesso-estensione passi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odalità flessibi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odalità rig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ono-supinazione passi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Necessaria una coppia di attivazione di 2,5N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OM (±175)° dalla posizione neutr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’ possibile bloccare il polso in diverse posizion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4292640" y="2684520"/>
            <a:ext cx="474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one in relazione tutti i componenti del sist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Viene programmato via Bluetooth tramite software dedica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nsente la gestione del sistema con 1 o 2 elettrodi e con modalità digitale o proporzion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nsente la scelta di differenti metodi di commut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971640" y="1093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stema protesico transradiale con comunicazione Bus 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Microprocessore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 e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Sistema di accumulato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788000" y="2349360"/>
            <a:ext cx="345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Batteria costituita  da tre celle separate Li-Ion connesse da un cavo flessibile e posizionate nell’alloggio protes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apacità ca. 1500 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076720" y="4599000"/>
            <a:ext cx="24955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7:35:25Z</dcterms:created>
  <dc:creator>User</dc:creator>
  <dc:description/>
  <dc:language>en-US</dc:language>
  <cp:lastModifiedBy> </cp:lastModifiedBy>
  <dcterms:modified xsi:type="dcterms:W3CDTF">2012-05-23T06:22:06Z</dcterms:modified>
  <cp:revision>17</cp:revision>
  <dc:subject/>
  <dc:title>Diapositiva 1</dc:title>
</cp:coreProperties>
</file>